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DB1-2677-4BD6-8C9E-27429143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B6B-6AF4-44F8-B424-A4D90AC3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20C4-8B19-4267-8A40-C69AF4A2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4967B-394D-4789-9D1C-6CC5E89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9A68-BC0E-44C3-A678-39D92C11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59E29-A45B-4DF6-8F83-FC6A53B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DC352-1F74-4A8A-A86A-7EEADEF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571F6-B555-44DF-988A-07015037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D4443-D250-4286-9233-FEA785BC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345BF-282C-460B-BCD8-1F87D842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F1B21-0928-4FF8-B51A-EC689014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25E16-3658-4BFB-9A6E-6CC52A78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54C-7941-47FE-9A9C-90B73611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BCC3-AEDC-4834-8EF9-BD11A0DD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F1D35-1BF0-4645-B227-89ABE6B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C4EFC-4978-4701-BDF1-A5EC987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15BE-41BC-421C-B925-D47E8A70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55AEE-552E-4872-8F45-BEB1C205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CC88B-439D-4FB7-B91A-3C95C18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3D15F-6A95-4368-B8E8-308C1DD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E52FF-AEE4-4721-A46A-0E68C67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98BB2-6FA5-40DF-A07A-A6917C8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A648-ADED-4977-BA2A-D72D63C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5E0-BC19-4DED-A4FE-49FF22F8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89190-F4AC-48D4-A2AA-B6BECE15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35CD1-3D76-4733-AFC8-A8BE218F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D1A3C-2D3C-42C2-ACCF-B33D8D4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53975-D354-4A6F-8BE9-AECF0AB6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2D997-22DF-41D7-8682-7331038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0ABA4-435A-4077-A370-13CB32D1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B03BA-C8C8-43A5-9160-283E9EF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41D70-7576-4B3F-9467-5149B227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7EFC-C10C-4F9F-82AD-4020B80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4FF1B-9BC8-43B9-B4C1-FA497FC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6E6-624B-424A-9B43-42C9F147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353C-8B8F-4DF7-9B77-E5FF8F3D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CE022-74BA-4773-9732-222A13B8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0BA91-EC3E-4126-B991-2FF5F6FD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F7959-8F80-4E21-91D2-25072B0B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A5B1D-4573-4684-A366-E5DF3DF3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22B15-0528-4BBD-B55D-0AF0B15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EDCD7-17D7-404E-BE28-8337300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5170D-A2F0-4A69-8467-958207CA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BD93A-989A-4510-AF75-3C3EF85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0B57B-5ABC-403D-A2CE-50D0132C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B9DE-7E1E-4DC2-A8F7-98EFE61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1C479-8FB4-4DA2-ACBD-B03B432E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E04B2-7FCC-4360-8F47-4D7CC75C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16E83-1D68-44A0-A292-E84F720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0E9E0-647A-493B-9AD1-BBCE241E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8FAD8-7C59-40BD-B0BF-D8E0166E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834FE-CFAA-4BD9-B99B-3BC76371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52DC4-5BB2-4CA8-B10F-DA7BB0A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2CC57-9B14-4614-9160-BD8A788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95985-3817-4FC5-820C-280E9CE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CCF29-A0AB-4B30-80CA-A1B14BB5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2608-1EE4-408F-8449-7B83860B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8CC18-12BF-48AD-8BC9-7A8F4C53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D9A6F-D9CD-4A93-9BA3-AC269E7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AB04B-6802-4384-B8C8-B96774D3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4D346-6B2C-46BE-A193-7EFB7A0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D2698-78BC-48A9-926F-C27F767E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19B10-A815-46AA-9E49-B212486A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96A7A-0ABD-43C6-B785-A9187CD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72288-3904-456A-91BA-B4C0252B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B4A3C-9A52-46FB-A359-F9B43984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6CF81-AE63-406F-BCC3-1CE4A339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00B-9185-4347-AEC5-8FB4FBC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B1581-A760-4029-9366-A0AF9C73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6DCB4-EF22-41BA-A278-4758E88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7B66E-A855-44DE-AEF4-F7E9033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5F562-B25D-4813-AED4-7369430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B1BF4-D19F-4FED-8033-85A7E85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4A7D7-49FB-44F8-8FD8-51B4ED0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A3809-CED1-407C-B40A-24F360DE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73181-2E51-42B0-9627-F161D93C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646A1-C13D-479D-A8F3-F2057B72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2BBEE-3AA7-47E2-A3F5-7DF8757B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6C2-EE56-4B01-8818-768F3EB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4D1C0-206C-4585-8635-8D3A32B2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F7E21-D1B1-441D-9A78-F031D25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230FE-4E61-43F0-87A8-9E69A6A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68C5D-BA37-4C89-AA8C-F57ADF0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F4B0C-6BA6-4E78-AB97-7C0A3CCF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BD8E3-086A-46A7-B292-5E0C426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9FD0D-59FA-4E5A-83AF-2335C2C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6E8A2-E74B-4B1D-A5DD-EAACFCF4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D2304-2EA8-4D26-8873-BE4F132F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D2CAA-BCB3-44B1-879C-EF49062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CC0C-34E6-4A95-B28A-1F2B3DF2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275AF-B35F-4907-BF82-94000AF9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36D05-7E3F-4C42-AF42-0887C06F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4FD1D-9AB3-4254-AB6E-9A5F50DA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3360B-4071-4A05-BA61-3211821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9CB7D-F6FE-4B14-9AAD-BE94B63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4E2C4-86D0-4E20-996F-D8037226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DBA58-86CE-4214-A8CC-1B3D12DB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5FD04-7ABC-47D3-954C-090A8C4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214C9-4C97-42E6-9F09-F9DFCF5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186E7-CC01-49EB-AA26-EB6B27EA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A36-2BC8-4ED1-96CE-58D5483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C27B1-4DC1-4320-84EF-6DE932E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AEDE3-3B19-4722-A1FB-DAE25C49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24343-DA11-42F0-BC47-9CF5ACB9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2AD87-F364-408E-BD41-E6FFA63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25A68-C417-40EF-8F2F-33F3BBD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19B8F-AEE2-459D-AE58-17DF5F5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E8E83-89F7-4CA1-9FB8-5D49E9C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BC48D-8BF8-4533-87A5-83446EA1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6FD4E-90A6-48D2-8496-D0578E6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C9436-70E7-4E62-8905-A8ED1DF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AD5-269D-444A-891F-1610423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E47-471B-4A43-AD60-DD95293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01A3B-432F-4510-8273-C8BC30B1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E22FC-DEF5-49FC-83E3-D51CF80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8064E-BA70-48DD-8EE9-CB8ECE44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903E7-A183-4C40-AA44-2323CD54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1F678C-B5FE-4439-A0C6-6305A90E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FE007-4A2C-489A-9CD8-BA213936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ECEC7-7942-412B-80CD-FB99E50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0237A-9D07-46FC-B693-AEECFF6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61344-23B9-49FE-B141-12BC3A33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A1125-398A-4C25-B07E-4FC4FDB9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1F7B-77CB-4C57-A351-A691C2C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7B701-2F37-4897-BAB6-41304A8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0482E-020F-4F84-99E1-6018636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A9AA1-76B4-45EF-82FC-7D20404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D3B99-C151-4527-8584-C177CA5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FC77C-5FF1-44BE-9ED5-50EC2DB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173FB-04C7-4BEA-84C3-988809A2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C0D89-FD4E-4C77-B5ED-DFEDE115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D0676-4AA2-419C-A448-830463D1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02BEC-73D5-4408-816E-3A30C6CC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7DA02-BDB2-4759-B04E-39AD31D4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9C2E-73F4-487A-BC61-3CC6580B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8F6E7-E236-40FC-9B45-9A4ECD2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C8BC9-8A05-4579-95B6-DD09B039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26D16-E034-4E84-AF52-A6F34326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1B4D0-A8D8-4453-96DC-7162C91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CA7C4-832C-42C1-B4F8-096813C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4B7BD-9D8D-4D5A-9ABC-B7ABDB23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0347C-1D64-466F-B5B7-9F4B5321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018D6-CF6B-4DA6-8C0F-B2471D9A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717FD-94BC-4CFE-8DEB-165339DC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53964-90FA-4AE1-A4AD-E47A517D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57C-CF21-428F-B9DB-70A2A2E2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68022-FD3D-475A-9D07-3991705C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CF5A3-9BFC-46D0-84EC-8CD9B690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4E656-D5C0-405A-B9BB-FC875894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F2A6F-94B6-4C8C-A9DD-82550B3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F2448-1621-41AD-A483-7E4140C1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8390F-181E-4D7A-AD2A-8A71A046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34C29-8CA9-4CB8-97A3-451A411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07801-FE68-498B-B30E-71F5209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8807E-A22E-40FC-BED5-04BE758C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38244-C888-443D-881E-9050DA27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401-B12F-4819-BBE4-F2220BAC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F6554-E5DC-4DA3-9340-C0707963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8B276-A675-4D8B-988D-43253B48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214C13-22A8-400E-959A-D3A0CDC2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44C3C-C13C-4471-80E0-C2FA1F0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96F80-694A-4958-9D24-CB6B21A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3F2D6-459C-4062-BC68-BC5A5914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EBA9C-145C-41CE-8939-2FD98614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F9606-9BF9-4950-8475-C25C452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6B7BB-824B-4467-B123-47BDD54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1AF96-E45A-475E-BB73-B4A5618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D9D3-51C4-4DAD-BE2A-12B07CC3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CE50F-D485-49E1-847A-7B1A7F0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8B9F4-227E-49E5-9498-D32EFBAA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DBB485-8DDA-41E0-899B-6CEE176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B33E-0639-4A0E-A606-A64F3F8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07AB-137C-4740-B743-755C1B4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A1CD-B22A-401D-ABDB-5C83CEE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F047-77E1-4860-947C-17376DA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C31-226C-4FBA-B904-D215AA8C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FA8B-B30D-4228-8419-8A8F5EFF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990B-B47C-4FA7-9232-E829DB2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18E7-9460-4C5C-810F-DA86ECF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99B5-0AD0-4023-9A09-1498EC4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629D-40E2-4364-87E7-8CCCC16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45A1-27CF-417C-80AF-DA0334BE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489D4-44F2-4869-8FA8-D40C8F3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7C0D-E8BC-49F7-9E66-47433466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FF5C-F9DE-42EA-B210-F5BC70A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12C5-CC7A-4BA1-B431-131E6EC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0D5-7A20-4475-8D1B-FAADE074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BD44-06D1-4C9C-8762-ADB16B7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D87F-1737-4BD9-9050-BE82F900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99A2-63E6-4DF7-9833-539B49B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C796-DA6D-4540-A60C-BAF4417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A3EA-5CDF-4B84-933D-9B351D4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A209-0B91-4394-9F6F-ABFE329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0237-61B0-4BEF-A3C1-F33FF3D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98EF-772F-4123-956F-4500921A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1609-77B8-46EA-82E8-2B6E004F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43AA-2D8D-4C04-B0E1-B9C96B70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041-6111-46AF-ADB3-39E1964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7F66-173A-4079-8938-16553AD9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C047-F588-42A7-AA3F-DCFA902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87B5-CFD0-472E-9B19-A00E7F82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1C1E-E0FB-4E0A-8F11-42D058F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D13E-B00D-4E04-A9B5-7C2399B7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603E-A390-411D-BDFF-4266FFF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69E8-3021-411F-AA7A-72459718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FBA2-8EDC-4289-BFC9-F2586F7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9708-6B46-401F-9E8E-55F8B48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D479-190B-4AF8-B024-E6B54678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615-2230-4D07-B153-8C64017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BD0A-4CA5-4B15-AC13-2270FDBA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D61C-E937-45B0-AE5F-C543FFE9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F5FE2-DC44-4E99-8902-DACE1A9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6255-42F4-4E33-8170-3AE4A82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8064-C433-44FC-857A-55CBF1E3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FA3A-4C96-4C2D-BE6C-2D5FF01C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99AA3-F647-4DAF-8DB5-19B72E73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7EB8-593A-4266-9EF9-C4D5BD5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E7A3-AAF8-4F72-B6E3-CC876F4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EB77C-BBB9-4AFD-8946-990386B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78D-29A4-4502-96D3-EBDEEE2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585C-0885-4652-93A5-4381BCF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62F2-28A5-41D7-9F01-595EDE03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A461-800C-4F93-9D6B-CAC5127B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5974-643B-4567-A1AB-48EB76E4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2A2B0-7107-480B-A2A2-19D5BF3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6E19-AEC6-4EE2-A978-05C706F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DFF88-B9EC-4DDC-B3F6-BEE527D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7761-77A0-42E1-BEC4-F9354D80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D3B0-DBE8-4ED2-B4C7-7D69CDFC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21723-973A-4ECC-9751-EB4B39B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06B-2DEA-467A-8B71-4FFAD90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C31B2-13F2-48CA-AE2A-6847454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9C93-7F57-4C56-A7C2-16859C0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6BDBE-5B42-4586-99BD-9C8B5D8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B874E-3484-4B64-B2FC-5AD18E73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E8EA-4ED6-44BA-8C3D-644CDC48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1EC7-90A2-4E57-B6AE-EC0EA984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816AD-812A-4DE5-8320-AA5B298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BE06-A3F6-4138-8082-C94B8E5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91B2-5CB2-486A-8614-E55CBDC5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2EF7E-E229-421C-A858-8C978DE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34D-935C-46F3-B6DB-1266845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73E71-A214-49CE-88AF-7326B64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4115B-4B14-46ED-ADCA-FF03959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56CF-46FB-4CBF-8AE7-6BF8DED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2F005-7088-4762-ACF5-3AF63C31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FF2A-EA82-46B6-A557-8AC1EE06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46C5-9C0B-4111-A7A4-7705B71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91FD-A158-43B2-963B-B15C7A6C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E292E-94F6-450F-96A4-454DEB01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2502E-9B4E-4980-8D28-34D7D6D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5086B-B155-4BAD-B907-CED8DDEF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024-AEA5-471B-AA44-A0658AEC3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DA47-1E83-4D99-A8E1-43815A5FF6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103-A0AD-44C1-ADA7-DFBB473D0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A93-D905-4985-9149-93C0EE8B1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9EA9-1376-4140-A781-CB014C824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CA3-FD72-4EA9-B416-B27A00D91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4355-B8DE-40EF-BA2E-F6346FFF1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7B0-E6E0-4141-95BE-D8ED0A8E3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F7BF-FCBC-4761-8C86-91F853508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82A-98A2-4BBF-BC5A-113AE0CB3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F054-B85A-4CA5-B985-3EF1298951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21D4-09FC-4F43-86EB-5C2B32550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1B8-DBB6-4773-96BA-BA38B017F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5FA-717F-412B-868C-67D0128DAB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6E6-C410-4DA9-8C96-4F865B094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FA7-E805-4C80-A264-387C49D24D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67DA-8CED-4F00-9ADB-3153F13603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208-CEE0-491C-98C7-BA2E5DB30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183-8FC7-40D3-A6EC-1BEA2740D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FDC7-BC34-4675-ADFE-3388DF6DF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0F4-CB3C-459A-83A1-632D69CF5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A2A-921E-413D-A0DC-F204CE248A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7DEC-849E-401B-990B-211287AC1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3BD-1B61-4A21-99AB-B96A147097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D54B-3048-447A-9B52-1E402483F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3BBA-2B50-4609-B039-668CA469E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D09C-F11F-4E9B-ABF8-40C3E9B9B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6125-3095-453C-9451-5AF494524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0FD-D7BA-4368-BCCC-79492AB63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B07D-AF61-4A6F-87A5-20C953524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78C-06B9-49F9-8BCE-2FEC3F2BB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11D-E4E7-41A8-BF93-BDBAA88CB1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B9F3-73D4-4638-91A9-46DB6EBB9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371-E892-4188-9380-B9F610E03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5CC-AF53-457E-9A65-CDC1FAC60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DD0-B6C9-4C92-96B5-4705B7DA7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813-08F8-4D43-8E26-1A5325219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9FD2-C36D-4709-B1A0-EFB872643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5C2D-4E0A-429F-B693-51B216DFE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23C-3733-4C2D-BDF3-720791760C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28640" y="3057480"/>
            <a:ext cx="5886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8467560" cy="18860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963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962760" cy="1952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211640" y="1773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442764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759636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59636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1908000" y="41353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1749600" y="48546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4859280" y="39909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4859280" y="4869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8028000" y="4005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8028000" y="4869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2520" y="757080"/>
            <a:ext cx="8238960" cy="5343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84720" y="4840200"/>
            <a:ext cx="158256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5445000"/>
            <a:ext cx="158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38280" y="809640"/>
            <a:ext cx="7867440" cy="5572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59236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2592360" cy="863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1692360" y="3357720"/>
            <a:ext cx="201600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826920" y="3860640"/>
            <a:ext cx="3745080" cy="86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2771640" y="55879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638280" y="1566720"/>
            <a:ext cx="7867440" cy="3724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539640" y="37162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5219640" y="41925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022480" y="4738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28680" y="1100160"/>
            <a:ext cx="8486640" cy="4657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971640" y="275256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900000" y="3313080"/>
            <a:ext cx="4176720" cy="836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042920" y="422100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1619280" y="475308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900000" y="5300640"/>
            <a:ext cx="691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495360" y="1609560"/>
            <a:ext cx="81532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1552680" y="1371600"/>
            <a:ext cx="6038640" cy="41148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476360" y="1989000"/>
            <a:ext cx="3095640" cy="792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403280" y="2981160"/>
            <a:ext cx="3095640" cy="792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1332000" y="38750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1332000" y="439416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1332000" y="4941720"/>
            <a:ext cx="648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299880" y="525600"/>
            <a:ext cx="8544240" cy="6143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71640" y="317016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1260360" y="3687840"/>
            <a:ext cx="3095640" cy="9651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1187280" y="4681440"/>
            <a:ext cx="532944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1116000" y="5214960"/>
            <a:ext cx="5329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971640" y="5705640"/>
            <a:ext cx="7921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09600" y="863640"/>
            <a:ext cx="8524800" cy="5734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3125880"/>
            <a:ext cx="45356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971640" y="3687840"/>
            <a:ext cx="4535280" cy="893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4535640" cy="8938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1187280" y="5661000"/>
            <a:ext cx="453564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11280" y="6121440"/>
            <a:ext cx="4535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55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